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1144-2000-4811-8B42-E48E48763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CC3E-A7B7-4D40-AAB2-215FA5B04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62000"/>
            <a:ext cx="853416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8518559C-D991-46AC-BA0D-70C86A1A798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hapter 7</a:t>
            </a:r>
            <a:br>
              <a:rPr sz="3700"/>
            </a:br>
            <a:br>
              <a:rPr sz="37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Budgets, Variances and Management Control: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304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5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5 - $24) x 2,304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,304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,304 - 2,500) x $25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704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6668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88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4479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2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4479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3623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362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724280"/>
            <a:ext cx="2666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Labour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1814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9625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9625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48769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8769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97180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4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75248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304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704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66688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1904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440" y="1143000"/>
            <a:ext cx="8526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are 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 – the degree to which organization’s predetermined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- how well inputs were used in relation to a given level of outpu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indicate that something was difference than expecte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is critical is to understand why variances arise and use this knowledge to promote learning and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investigate only significant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8 - 2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ous Improvement an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continuous improvement budgeted costs is another way to control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is successively reduced over succeeding time peri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als importance of reducing 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0 - 25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657600"/>
            <a:ext cx="8526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or Month’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duction 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i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0.600 (1% x $60.0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94 (1% x $59.40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88 (1% x $58.8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2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95680"/>
            <a:ext cx="8305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and Varianc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 think of budgeted amounts as benchmarks (points of reference from which comparisons may be mad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chmarking refers to the continual process of measuring products, services and activities against the best level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use internal or external benchmarks\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y Questions to As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y are the cost levels different between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can best practices be transferred from more efficient to less efficient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6 - 2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c and Flexible 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based on a single level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exibl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which is adjusted for the actual level of output, revenue, or cost driv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arefully predetermined amount representing what management thinks a cost should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quantity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 kg.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8 per kg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6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3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203480"/>
            <a:ext cx="8298000" cy="16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represent the difference between the cost that was incurred and the budgete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cost &gt; Budgeted cost = Un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&gt; Actual cost = 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9880" y="3048120"/>
            <a:ext cx="5105520" cy="5024520"/>
            <a:chOff x="3809880" y="3048120"/>
            <a:chExt cx="5105520" cy="5024520"/>
          </a:xfrm>
        </p:grpSpPr>
        <p:sp>
          <p:nvSpPr>
            <p:cNvPr id="55" name=""/>
            <p:cNvSpPr/>
            <p:nvPr/>
          </p:nvSpPr>
          <p:spPr>
            <a:xfrm>
              <a:off x="3809880" y="3048120"/>
              <a:ext cx="5105520" cy="5024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310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20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68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88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4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705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  5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71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1480" y="3657600"/>
              <a:ext cx="3505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6 - 2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429000"/>
            <a:ext cx="3505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between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result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hieved and t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iginal stati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80880" y="1066680"/>
            <a:ext cx="8534520" cy="6040440"/>
            <a:chOff x="380880" y="1066680"/>
            <a:chExt cx="8534520" cy="6040440"/>
          </a:xfrm>
        </p:grpSpPr>
        <p:sp>
          <p:nvSpPr>
            <p:cNvPr id="60" name=""/>
            <p:cNvSpPr/>
            <p:nvPr/>
          </p:nvSpPr>
          <p:spPr>
            <a:xfrm>
              <a:off x="380880" y="1066680"/>
              <a:ext cx="8534520" cy="60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2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88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0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1981080"/>
              <a:ext cx="6629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33526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42670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96080" y="42670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96080" y="33526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A Flexible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8 - 24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90920" y="5035680"/>
            <a:ext cx="5790960" cy="609120"/>
            <a:chOff x="2590920" y="5035680"/>
            <a:chExt cx="5790960" cy="609120"/>
          </a:xfrm>
        </p:grpSpPr>
        <p:sp>
          <p:nvSpPr>
            <p:cNvPr id="69" name=""/>
            <p:cNvSpPr/>
            <p:nvPr/>
          </p:nvSpPr>
          <p:spPr>
            <a:xfrm>
              <a:off x="25909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2960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90920" y="5333760"/>
              <a:ext cx="5638680" cy="6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5035680"/>
              <a:ext cx="25905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Flexible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50356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Sales volume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90920" y="5721480"/>
            <a:ext cx="5638680" cy="609120"/>
            <a:chOff x="2590920" y="5721480"/>
            <a:chExt cx="5638680" cy="609120"/>
          </a:xfrm>
        </p:grpSpPr>
        <p:sp>
          <p:nvSpPr>
            <p:cNvPr id="76" name=""/>
            <p:cNvSpPr/>
            <p:nvPr/>
          </p:nvSpPr>
          <p:spPr>
            <a:xfrm>
              <a:off x="259092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2960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6026040"/>
              <a:ext cx="5638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57214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Total static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1344600"/>
            <a:ext cx="2057400" cy="4394520"/>
            <a:chOff x="4191120" y="1344600"/>
            <a:chExt cx="2057400" cy="4394520"/>
          </a:xfrm>
        </p:grpSpPr>
        <p:sp>
          <p:nvSpPr>
            <p:cNvPr id="81" name=""/>
            <p:cNvSpPr/>
            <p:nvPr/>
          </p:nvSpPr>
          <p:spPr>
            <a:xfrm>
              <a:off x="4191120" y="1344600"/>
              <a:ext cx="2057400" cy="43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2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46160"/>
            <a:ext cx="3124080" cy="3845880"/>
            <a:chOff x="4648320" y="1046160"/>
            <a:chExt cx="3124080" cy="3845880"/>
          </a:xfrm>
        </p:grpSpPr>
        <p:sp>
          <p:nvSpPr>
            <p:cNvPr id="85" name=""/>
            <p:cNvSpPr/>
            <p:nvPr/>
          </p:nvSpPr>
          <p:spPr>
            <a:xfrm>
              <a:off x="4648320" y="1046160"/>
              <a:ext cx="312408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ale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6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8,000 F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6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008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286000" y="1066680"/>
            <a:ext cx="2590920" cy="3845880"/>
            <a:chOff x="2286000" y="1066680"/>
            <a:chExt cx="2590920" cy="3845880"/>
          </a:xfrm>
        </p:grpSpPr>
        <p:sp>
          <p:nvSpPr>
            <p:cNvPr id="89" name=""/>
            <p:cNvSpPr/>
            <p:nvPr/>
          </p:nvSpPr>
          <p:spPr>
            <a:xfrm>
              <a:off x="2286000" y="1066680"/>
              <a:ext cx="259092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0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3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5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33526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42670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ling Pric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measures of effectiveness and efficienc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185 - $180) x 10,000 units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0,0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139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4724280" cy="7621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374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gree to which the organization’s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d by the 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10,000 - 12,000) x $81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62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3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124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8954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200400"/>
            <a:ext cx="396252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100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te: This variance can be read as the difference between the contribution margin in the flexible and static budge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266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is the difference between the actual price and the budgeted price multiplied by the actual quantity of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 is the difference between the actual quantity of inputs used and the budgeted quantity of inputs that should have been used, multiplied by the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038480"/>
            <a:ext cx="3276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7150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715000"/>
            <a:ext cx="2590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648320"/>
            <a:ext cx="4267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8640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419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1 - 2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- Mater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,200 sq met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 sq met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1 per me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 per me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31 - $30) x 22,2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2,2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,200 - 20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6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,000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,0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2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0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2 - $20) x 9,0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8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9,000 - 8,000) x $2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0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3:31:14Z</dcterms:created>
  <dc:creator>User</dc:creator>
  <dc:description/>
  <dc:language>en-US</dc:language>
  <cp:lastModifiedBy>John Moore</cp:lastModifiedBy>
  <cp:lastPrinted>1999-06-03T16:31:46Z</cp:lastPrinted>
  <dcterms:modified xsi:type="dcterms:W3CDTF">2003-03-22T13:12:29Z</dcterms:modified>
  <cp:revision>14</cp:revision>
  <dc:subject/>
  <dc:title>Static and Flexible Budgets</dc:title>
</cp:coreProperties>
</file>